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3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91A-0EFB-447B-AECE-FA62EEED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38C-9D5C-43D8-8AA4-326C3032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8F4-0D6F-4152-BBDE-8D84245D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D3B-6DF1-4E1C-BB46-A1FD36E7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817-76A3-4890-8F44-E148B309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52F-573A-4FD1-9EB7-02158D81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092-D6E0-426B-80D9-93C78144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6A1-479E-4B43-AF27-84EFFB93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A28-1864-427C-8B48-AAEAB41C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C3F-43F4-4E96-AFD7-CBFA4CC5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18E-90DE-4C84-9C31-ED6BA5D5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A20-D7B1-44A8-86E5-CF494D31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08AA-FDCC-4CC9-8B69-BD899FBE7D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987640" y="4581360"/>
            <a:ext cx="36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JUNIO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403280" y="2924280"/>
            <a:ext cx="7543800" cy="119124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 Narrow"/>
              </a:rPr>
              <a:t>Consumo de drogas: Datos epidemiológico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jnd (2)"/>
          <p:cNvPicPr/>
          <p:nvPr/>
        </p:nvPicPr>
        <p:blipFill>
          <a:blip r:embed="rId1"/>
          <a:stretch/>
        </p:blipFill>
        <p:spPr>
          <a:xfrm>
            <a:off x="2549520" y="0"/>
            <a:ext cx="41338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5"/>
          <p:cNvGraphicFramePr/>
          <p:nvPr/>
        </p:nvGraphicFramePr>
        <p:xfrm>
          <a:off x="1562040" y="1413000"/>
          <a:ext cx="723600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413000"/>
                    <a:ext cx="723600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47"/>
          <p:cNvSpPr/>
          <p:nvPr/>
        </p:nvSpPr>
        <p:spPr>
          <a:xfrm>
            <a:off x="1908000" y="189000"/>
            <a:ext cx="5616720" cy="76356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studio sobre presencia de Drogas en Emergencias hospitalarias</a:t>
            </a: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. 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Hospital Pasteur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640" y="274680"/>
            <a:ext cx="496872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2340000" y="1571760"/>
          <a:ext cx="409248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571760"/>
                    <a:ext cx="409248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440000" y="4562640"/>
          <a:ext cx="2663640" cy="1126800"/>
        </p:xfrm>
        <a:graphic>
          <a:graphicData uri="http://schemas.openxmlformats.org/drawingml/2006/table">
            <a:tbl>
              <a:tblPr/>
              <a:tblGrid>
                <a:gridCol w="1655640"/>
                <a:gridCol w="10080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cias año en el Mu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ón (Argentina, Chi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 – 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4"/>
          <p:cNvSpPr/>
          <p:nvPr/>
        </p:nvSpPr>
        <p:spPr>
          <a:xfrm>
            <a:off x="1403280" y="9079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cc3300"/>
                </a:solidFill>
                <a:latin typeface="Arial Narrow"/>
              </a:rPr>
              <a:t>El 8,3% de la población representada  ha consumido Marihuana en los últimos 12 meses (128.000 person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38920" y="393552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volución  del consu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81"/>
          <p:cNvGraphicFramePr/>
          <p:nvPr/>
        </p:nvGraphicFramePr>
        <p:xfrm>
          <a:off x="4175280" y="4492800"/>
          <a:ext cx="4716360" cy="1779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Object 1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5280" y="4492800"/>
                    <a:ext cx="471636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1547640" y="986760"/>
            <a:ext cx="58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sumo de marihuana. Prevalencia de vida según sexo y tramo de 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3"/>
          <p:cNvSpPr/>
          <p:nvPr/>
        </p:nvSpPr>
        <p:spPr>
          <a:xfrm>
            <a:off x="6083280" y="4149720"/>
            <a:ext cx="2592360" cy="15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Un 25,1% de los que probaron marihuana alguna vez en la vida tiene actualmente un patrón de consumo frecuent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Otro 58,6%, no ha consumido en el último año. </a:t>
            </a: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50"/>
          <p:cNvGraphicFramePr/>
          <p:nvPr/>
        </p:nvGraphicFramePr>
        <p:xfrm>
          <a:off x="1619280" y="1400040"/>
          <a:ext cx="5761080" cy="21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00040"/>
                    <a:ext cx="5761080" cy="21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53"/>
          <p:cNvSpPr/>
          <p:nvPr/>
        </p:nvSpPr>
        <p:spPr>
          <a:xfrm>
            <a:off x="2050920" y="4427640"/>
            <a:ext cx="23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cada 10 personas que probaron la sustancia, cuatro mantienen el consumo en el último añ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3492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1260360" y="2317680"/>
          <a:ext cx="3814920" cy="280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2317680"/>
                    <a:ext cx="38149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4"/>
          <p:cNvSpPr/>
          <p:nvPr/>
        </p:nvSpPr>
        <p:spPr>
          <a:xfrm>
            <a:off x="1332000" y="12286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l 16,6% de los consumidores del último año presentan signos de uso problemático (21.000 personas aproximadament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651640" y="3432240"/>
            <a:ext cx="316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A igual frecuencia de consumo, mayor uso problemático en las mujeres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148360" y="3537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183528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CA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8"/>
          <p:cNvGraphicFramePr/>
          <p:nvPr/>
        </p:nvGraphicFramePr>
        <p:xfrm>
          <a:off x="1476360" y="985680"/>
          <a:ext cx="4248000" cy="24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85680"/>
                    <a:ext cx="424800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9"/>
          <p:cNvSpPr/>
          <p:nvPr/>
        </p:nvSpPr>
        <p:spPr>
          <a:xfrm>
            <a:off x="5975280" y="1413000"/>
            <a:ext cx="2808360" cy="15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Un 13,4% de los que probaron cocaína alguna vez en la vida tiene actualmente un patrón de consumo frecuent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Otro 68,7% no ha consumido en el último año. </a:t>
            </a: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356000" y="3429000"/>
          <a:ext cx="4464000" cy="207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429000"/>
                    <a:ext cx="446400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11"/>
          <p:cNvSpPr/>
          <p:nvPr/>
        </p:nvSpPr>
        <p:spPr>
          <a:xfrm>
            <a:off x="2627280" y="5734080"/>
            <a:ext cx="61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1" lang="es-UY" sz="1600" spc="-1" strike="noStrike">
                <a:solidFill>
                  <a:srgbClr val="666633"/>
                </a:solidFill>
                <a:latin typeface="Arial"/>
              </a:rPr>
              <a:t>SÓLO LA EXPERIMENTACIÓN TUVO UN CRECIMIENTO ESTADÍSTICAMENTE SIGNIFICATIVO ENTRE 2006 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32000" y="3965400"/>
          <a:ext cx="2808360" cy="1229040"/>
        </p:xfrm>
        <a:graphic>
          <a:graphicData uri="http://schemas.openxmlformats.org/drawingml/2006/table">
            <a:tbl>
              <a:tblPr/>
              <a:tblGrid>
                <a:gridCol w="1727280"/>
                <a:gridCol w="10810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cias año en el Mu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ón (Argentina,Chi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-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Oval 42"/>
          <p:cNvSpPr/>
          <p:nvPr/>
        </p:nvSpPr>
        <p:spPr>
          <a:xfrm>
            <a:off x="4356000" y="2060640"/>
            <a:ext cx="1152720" cy="1197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3"/>
          <p:cNvSpPr/>
          <p:nvPr/>
        </p:nvSpPr>
        <p:spPr>
          <a:xfrm>
            <a:off x="5110200" y="2766960"/>
            <a:ext cx="1728720" cy="24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161928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CA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448000" y="2361960"/>
            <a:ext cx="572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Arial"/>
              </a:rPr>
              <a:t>El 34% de los que consumieron cocaína en el último año presenta signos de dependencia, lo que representa a 10.204 usu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90920" y="4640400"/>
          <a:ext cx="3673440" cy="974520"/>
        </p:xfrm>
        <a:graphic>
          <a:graphicData uri="http://schemas.openxmlformats.org/drawingml/2006/table">
            <a:tbl>
              <a:tblPr/>
              <a:tblGrid>
                <a:gridCol w="3056040"/>
                <a:gridCol w="61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casional / experimen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Frecu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7"/>
          <p:cNvSpPr/>
          <p:nvPr/>
        </p:nvSpPr>
        <p:spPr>
          <a:xfrm>
            <a:off x="2448000" y="3716280"/>
            <a:ext cx="547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% de consumidores problemáticos según frecuencia de consumo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8"/>
          <p:cNvSpPr/>
          <p:nvPr/>
        </p:nvSpPr>
        <p:spPr>
          <a:xfrm>
            <a:off x="1476360" y="11487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consumo de cocaína se da mayormente en hombres, residentes en Montevideo y menores de 35 años de e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1619280" y="6516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AST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6"/>
          <p:cNvGraphicFramePr/>
          <p:nvPr/>
        </p:nvGraphicFramePr>
        <p:xfrm>
          <a:off x="1403280" y="1477800"/>
          <a:ext cx="3673440" cy="22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477800"/>
                    <a:ext cx="367344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AutoShape 7"/>
          <p:cNvSpPr/>
          <p:nvPr/>
        </p:nvSpPr>
        <p:spPr>
          <a:xfrm>
            <a:off x="5292720" y="2133720"/>
            <a:ext cx="719280" cy="358560"/>
          </a:xfrm>
          <a:prstGeom prst="rightArrow">
            <a:avLst>
              <a:gd name="adj1" fmla="val 50000"/>
              <a:gd name="adj2" fmla="val 501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292720" y="2133720"/>
            <a:ext cx="503280" cy="358560"/>
          </a:xfrm>
          <a:prstGeom prst="rightArrow">
            <a:avLst>
              <a:gd name="adj1" fmla="val 50000"/>
              <a:gd name="adj2" fmla="val 3509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12000" y="1773360"/>
            <a:ext cx="2665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lta concentración geográfica y socioeconó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pasta base último-2"/>
          <p:cNvPicPr/>
          <p:nvPr/>
        </p:nvPicPr>
        <p:blipFill>
          <a:blip r:embed="rId3"/>
          <a:stretch/>
        </p:blipFill>
        <p:spPr>
          <a:xfrm>
            <a:off x="5076720" y="2843280"/>
            <a:ext cx="4067280" cy="33112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1"/>
          <p:cNvSpPr/>
          <p:nvPr/>
        </p:nvSpPr>
        <p:spPr>
          <a:xfrm>
            <a:off x="1187280" y="561960"/>
            <a:ext cx="76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l consumo de pasta base permanece estable en población general. No se presentan diferencias estadísticamente significativas respecto a la primera medición del año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403280" y="3933720"/>
            <a:ext cx="3395880" cy="2374920"/>
          </a:xfrm>
          <a:prstGeom prst="rect">
            <a:avLst/>
          </a:prstGeom>
          <a:solidFill>
            <a:srgbClr val="808000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El consumo de pasta base en la región(*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La prevalencia de vida del consumo de pasta base en las Américas –población general- oscila entre el 0,14% y el 3,1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Uruguay presenta valores inferiores a Chile y similares a Colombia, Perú y Ecuad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ffffff"/>
                </a:solidFill>
                <a:latin typeface="Arial Narrow"/>
                <a:ea typeface="SimSun"/>
              </a:rPr>
              <a:t>(*) Fuente: Informe del Uso de Drogas en las Américas., 2011, OEA - CIC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619280" y="6516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AST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5292720" y="2133720"/>
            <a:ext cx="719280" cy="358560"/>
          </a:xfrm>
          <a:prstGeom prst="rightArrow">
            <a:avLst>
              <a:gd name="adj1" fmla="val 50000"/>
              <a:gd name="adj2" fmla="val 501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908000" y="692280"/>
            <a:ext cx="5762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Perfil de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2,0% hombres versus 0,4 muj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Mayoritariamente menores de 30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18,9 años edad de inicio 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Policonsumid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6372360" y="155736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619280" y="2492280"/>
            <a:ext cx="7273800" cy="58068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LA MITAD DE LOS CONSUMIDORES DE LOS ÚLTIMOS 12 MESES PRESENTA USO PROBLEMÁTIC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12000" y="3933720"/>
          <a:ext cx="2412720" cy="2438640"/>
        </p:xfrm>
        <a:graphic>
          <a:graphicData uri="http://schemas.openxmlformats.org/drawingml/2006/table">
            <a:tbl>
              <a:tblPr/>
              <a:tblGrid>
                <a:gridCol w="1693800"/>
                <a:gridCol w="718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a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oh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hu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dro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114"/>
          <p:cNvSpPr/>
          <p:nvPr/>
        </p:nvSpPr>
        <p:spPr>
          <a:xfrm>
            <a:off x="5506920" y="331488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enso nacional de usuarios de drogas en tratamiento – OUD-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9"/>
          <p:cNvSpPr/>
          <p:nvPr/>
        </p:nvSpPr>
        <p:spPr>
          <a:xfrm>
            <a:off x="1619280" y="4105440"/>
            <a:ext cx="3095640" cy="148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Un 19,3% de los que probaron pasta base alguna vez en la vida tiene actualmente un patrón de consumo frecue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Otro 68,4% no ha consumido en el último año. 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OTRAS DRO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43280" y="1982880"/>
          <a:ext cx="3816360" cy="3962160"/>
        </p:xfrm>
        <a:graphic>
          <a:graphicData uri="http://schemas.openxmlformats.org/drawingml/2006/table">
            <a:tbl>
              <a:tblPr/>
              <a:tblGrid>
                <a:gridCol w="2004840"/>
                <a:gridCol w="1811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valencia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ucinógn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hal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a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fetam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tam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o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fina (sp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fetam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61" name="Text Box 142"/>
          <p:cNvSpPr/>
          <p:nvPr/>
        </p:nvSpPr>
        <p:spPr>
          <a:xfrm>
            <a:off x="1619280" y="10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nsumo experimental de otras sustancias, fundamentalmente en usuarios policonsumi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 Narrow"/>
              </a:rPr>
              <a:t>Drogas en el terri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9" descr="extasis último ahora si"/>
          <p:cNvPicPr/>
          <p:nvPr/>
        </p:nvPicPr>
        <p:blipFill>
          <a:blip r:embed="rId1"/>
          <a:stretch/>
        </p:blipFill>
        <p:spPr>
          <a:xfrm>
            <a:off x="4896000" y="1989000"/>
            <a:ext cx="4248000" cy="31165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0"/>
          <p:cNvSpPr/>
          <p:nvPr/>
        </p:nvSpPr>
        <p:spPr>
          <a:xfrm>
            <a:off x="1619280" y="981000"/>
            <a:ext cx="6624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l igual que la PBC, el consumo de éxtasis presenta una importante segmentación territorial y socioeconómica, en este caso presentando mayores tasas de consumo en los segmentos mas alt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1" descr="pasta base último-2"/>
          <p:cNvPicPr/>
          <p:nvPr/>
        </p:nvPicPr>
        <p:blipFill>
          <a:blip r:embed="rId2"/>
          <a:stretch/>
        </p:blipFill>
        <p:spPr>
          <a:xfrm>
            <a:off x="1297080" y="1989000"/>
            <a:ext cx="4066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1763640" y="115920"/>
            <a:ext cx="5256360" cy="7984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Definición de principales indicado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1258920" y="1484280"/>
            <a:ext cx="774072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DE VIDA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Has consumido alguna vez en la vida  x sustanc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ÚLTIMOS 12 MESES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Has consumido en los últimos 12 meses x sustancia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ÚLTIMOS 30 DÍAS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 Has consumido en los últimos 30 días x sustanc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CONSUMO PROBLEMÁTICO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rie de Indicadores resumidos en un INDICE que mide los síntomas de dependencia (física o psicológica) o uso abusivo de la  persona a la sustancia indagada (CIE-10) para drogas ilegales, AUDIT para Alcohol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ABUSO POR INGESTA (PARA ALCOHOL)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sumo en una sola ingesta superior a 4 tragos (equivalente a 80 o mas gramos de alcohol puro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SINTESIS: Consumo alguna vez en l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1476360" y="1123920"/>
            <a:ext cx="7201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l 95,7% probó alguna vez en la vida alguna droga (legal y/o ile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3"/>
          <p:cNvSpPr/>
          <p:nvPr/>
        </p:nvSpPr>
        <p:spPr>
          <a:xfrm>
            <a:off x="1619280" y="2442600"/>
            <a:ext cx="7200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de cada cuatro personas de la población representada  probó alguna droga ilegal en su vida.  De éstos seis de cada diez (64,2%) son monoconsumi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54"/>
          <p:cNvGraphicFramePr/>
          <p:nvPr/>
        </p:nvGraphicFramePr>
        <p:xfrm>
          <a:off x="1835280" y="3594240"/>
          <a:ext cx="554508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594240"/>
                    <a:ext cx="55450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1600200"/>
          <a:ext cx="4038480" cy="4492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49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5"/>
          <p:cNvSpPr/>
          <p:nvPr/>
        </p:nvSpPr>
        <p:spPr>
          <a:xfrm>
            <a:off x="1619280" y="260280"/>
            <a:ext cx="6192720" cy="692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SINTESIS: Consumo de drogas en los últimos 12 meses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2806560" y="119700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drogas más consumidas en la población de 15 y 64 años son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cohol y el taba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guidas d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ranquilizant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rihua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29"/>
          <p:cNvGraphicFramePr/>
          <p:nvPr/>
        </p:nvGraphicFramePr>
        <p:xfrm>
          <a:off x="1187280" y="2349360"/>
          <a:ext cx="6913800" cy="41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49360"/>
                    <a:ext cx="691380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1332000" y="115920"/>
            <a:ext cx="5616360" cy="72072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informe completo en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www.infodrogas.gub.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9" descr="tapa_v_encuesta (2)"/>
          <p:cNvPicPr/>
          <p:nvPr/>
        </p:nvPicPr>
        <p:blipFill>
          <a:blip r:embed="rId1"/>
          <a:stretch/>
        </p:blipFill>
        <p:spPr>
          <a:xfrm>
            <a:off x="2340000" y="836640"/>
            <a:ext cx="40543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979640" y="260280"/>
            <a:ext cx="489744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22"/>
          <p:cNvGraphicFramePr/>
          <p:nvPr/>
        </p:nvGraphicFramePr>
        <p:xfrm>
          <a:off x="1547640" y="4221000"/>
          <a:ext cx="4608720" cy="24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221000"/>
                    <a:ext cx="4608720" cy="24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24"/>
          <p:cNvGraphicFramePr/>
          <p:nvPr/>
        </p:nvGraphicFramePr>
        <p:xfrm>
          <a:off x="3635280" y="765000"/>
          <a:ext cx="4824360" cy="2948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0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765000"/>
                    <a:ext cx="48243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25"/>
          <p:cNvSpPr/>
          <p:nvPr/>
        </p:nvSpPr>
        <p:spPr>
          <a:xfrm>
            <a:off x="7164360" y="393372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7164360" y="4221000"/>
            <a:ext cx="176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Se presenta un aumento significativo del consumo de alcohol respecto al 200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1332000" y="1125360"/>
            <a:ext cx="230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Los hombres consumen en mayor medida que las mujeres, excepto en los menores de 18 años donde el consumo se equipara entre los sex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197080" y="1028880"/>
          <a:ext cx="6769080" cy="26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1028880"/>
                    <a:ext cx="676908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16"/>
          <p:cNvSpPr/>
          <p:nvPr/>
        </p:nvSpPr>
        <p:spPr>
          <a:xfrm>
            <a:off x="1749600" y="237960"/>
            <a:ext cx="491004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1476360" y="45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dad promedio de inicio del consumo de alcohol es 16,6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476360" y="4724280"/>
            <a:ext cx="72723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ores probabilidades de uso problemático y dependencia al alcohol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nt y Dawson (1997) aseguran que cerca del 40% de los que reportaron haber comenzado a beber antes de los 15 años describieron que en algún momento de sus vida llegaron a tener dependencia al alcohol, lo cual es una cifra cuatro veces superior a la reportada por quienes empezaron a beber a  los 21 añ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9"/>
          <p:cNvSpPr/>
          <p:nvPr/>
        </p:nvSpPr>
        <p:spPr>
          <a:xfrm>
            <a:off x="3203640" y="2374920"/>
            <a:ext cx="792000" cy="1366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187280" y="1268280"/>
            <a:ext cx="15130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La edad promedio  de inicio en estos jóvenes es de 13,82.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4"/>
          <p:cNvSpPr/>
          <p:nvPr/>
        </p:nvSpPr>
        <p:spPr>
          <a:xfrm flipH="1" flipV="1">
            <a:off x="2700360" y="2176200"/>
            <a:ext cx="71928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1835280" y="237960"/>
            <a:ext cx="453708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403280" y="4149720"/>
            <a:ext cx="774072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so problemático por episodios puntuales de abuso por ingesta sobre el nivel de intoxic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so problemático por ingestas habituales y/o puntuales igual o superior a cinco tragos; no presentando resultado positivo en la escala AUDI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I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so problemático identificado por valores positivos en la escala AUDIT  y donde en la mayoría de los casos además se presentan ingestas puntuales y habituales sobre el nivel de intoxicación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582560" y="169848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260.000 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personas entre 15 y 64 años presentan uso problemático de alcoh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6"/>
          <p:cNvGraphicFramePr/>
          <p:nvPr/>
        </p:nvGraphicFramePr>
        <p:xfrm>
          <a:off x="3887640" y="833400"/>
          <a:ext cx="4969080" cy="33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7640" y="833400"/>
                    <a:ext cx="496908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87280" y="2133720"/>
          <a:ext cx="685800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133720"/>
                    <a:ext cx="68580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11"/>
          <p:cNvSpPr/>
          <p:nvPr/>
        </p:nvSpPr>
        <p:spPr>
          <a:xfrm>
            <a:off x="984240" y="1268280"/>
            <a:ext cx="66294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ncidencia del alcohol por tipo de accidente (leves, graves y fat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ff"/>
                </a:solidFill>
                <a:latin typeface="Tahoma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900000" y="5084640"/>
            <a:ext cx="7489800" cy="4411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Se puede señalar que en un 16 % de los siniestros de tránsito se detectó presencia de alcohol en alguno de sus protagonista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Entre los accidentes fatales ocurre un salto en la incidencia del alcohol , llegando a un  porcentaje cercano al 40%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1476360" y="237960"/>
            <a:ext cx="6137280" cy="8874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INCIDENCIA DEL ALCOHOL EN LOS SINIESTROS DE TRÁNSITO</a:t>
            </a: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2124000" y="237960"/>
            <a:ext cx="446400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TABA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9"/>
          <p:cNvGraphicFramePr/>
          <p:nvPr/>
        </p:nvGraphicFramePr>
        <p:xfrm>
          <a:off x="1403280" y="3789360"/>
          <a:ext cx="518472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51847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3"/>
          <p:cNvGraphicFramePr/>
          <p:nvPr/>
        </p:nvGraphicFramePr>
        <p:xfrm>
          <a:off x="2806560" y="714240"/>
          <a:ext cx="6337440" cy="28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6560" y="714240"/>
                    <a:ext cx="633744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15"/>
          <p:cNvSpPr/>
          <p:nvPr/>
        </p:nvSpPr>
        <p:spPr>
          <a:xfrm>
            <a:off x="6877080" y="3905280"/>
            <a:ext cx="20876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l descenso en el consumo habitual es estadísticamente significativo, lo que se explica por el descenso del consumo de los homb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l rango de edad que muestra mayor cesación tabáquica es el de 36 a 45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403280" y="1197000"/>
            <a:ext cx="187344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Incidenci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asi el 60% son muje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Rango de edad predominante: 15 a 25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908000" y="237960"/>
            <a:ext cx="504036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Uso de medicamen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547640" y="1015200"/>
            <a:ext cx="7093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ranquilizantes son la tercera droga mas consumida, con una prevalencia de vida del 1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4179960" y="2462040"/>
            <a:ext cx="617400" cy="343080"/>
          </a:xfrm>
          <a:prstGeom prst="rightArrow">
            <a:avLst>
              <a:gd name="adj1" fmla="val 50000"/>
              <a:gd name="adj2" fmla="val 44990"/>
            </a:avLst>
          </a:prstGeom>
          <a:solidFill>
            <a:srgbClr val="66663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219640" y="2278080"/>
            <a:ext cx="2282760" cy="9144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e fueron recetados             85,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r su cuenta                       12,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imero recetado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uego por su cuenta               1,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6372360" y="3357720"/>
            <a:ext cx="388800" cy="457200"/>
          </a:xfrm>
          <a:prstGeom prst="downArrow">
            <a:avLst>
              <a:gd name="adj1" fmla="val 50000"/>
              <a:gd name="adj2" fmla="val 29398"/>
            </a:avLst>
          </a:prstGeom>
          <a:solidFill>
            <a:srgbClr val="66663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657440" y="1775520"/>
            <a:ext cx="584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valencia de vida tranquilizantes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Prevalencia de vida tranqui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prescripción méd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60680" y="2093760"/>
          <a:ext cx="1925640" cy="1098720"/>
        </p:xfrm>
        <a:graphic>
          <a:graphicData uri="http://schemas.openxmlformats.org/drawingml/2006/table">
            <a:tbl>
              <a:tblPr/>
              <a:tblGrid>
                <a:gridCol w="1011240"/>
                <a:gridCol w="914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90" name="Rectangle 61"/>
          <p:cNvSpPr/>
          <p:nvPr/>
        </p:nvSpPr>
        <p:spPr>
          <a:xfrm>
            <a:off x="1766880" y="3252600"/>
            <a:ext cx="188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se: Total de la muestr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2"/>
          <p:cNvSpPr/>
          <p:nvPr/>
        </p:nvSpPr>
        <p:spPr>
          <a:xfrm>
            <a:off x="5219640" y="3238200"/>
            <a:ext cx="384192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fesional que indicó los tranqui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67560" y="4214880"/>
          <a:ext cx="2743200" cy="1616040"/>
        </p:xfrm>
        <a:graphic>
          <a:graphicData uri="http://schemas.openxmlformats.org/drawingml/2006/table">
            <a:tbl>
              <a:tblPr/>
              <a:tblGrid>
                <a:gridCol w="1833480"/>
                <a:gridCol w="90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icina Gene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édico psiquia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tras especi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116"/>
          <p:cNvSpPr/>
          <p:nvPr/>
        </p:nvSpPr>
        <p:spPr>
          <a:xfrm>
            <a:off x="5730120" y="5968440"/>
            <a:ext cx="28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se: consumidores de tranquilizantes bajo prescripció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9"/>
          <p:cNvSpPr/>
          <p:nvPr/>
        </p:nvSpPr>
        <p:spPr>
          <a:xfrm>
            <a:off x="1036800" y="3570120"/>
            <a:ext cx="473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mo de tranquilizantes (con y sin prescripción médica) según sexo y edad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20"/>
          <p:cNvGraphicFramePr/>
          <p:nvPr/>
        </p:nvGraphicFramePr>
        <p:xfrm>
          <a:off x="1209600" y="4398840"/>
          <a:ext cx="4557960" cy="18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4398840"/>
                    <a:ext cx="4557960" cy="18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908000" y="237960"/>
            <a:ext cx="504036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Uso de medicamen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1562040" y="1303920"/>
            <a:ext cx="71154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4,6% de la población declara que ha consumido hipnóticos (con y sin prescripción) alguna</a:t>
            </a:r>
            <a:r>
              <a:rPr b="1" lang="es-ES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z en su vida; en tanto un 6,6% consumió antidepresivos (101.000 personas) y el 0,7% estimula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67"/>
          <p:cNvSpPr/>
          <p:nvPr/>
        </p:nvSpPr>
        <p:spPr>
          <a:xfrm>
            <a:off x="1908000" y="2772720"/>
            <a:ext cx="555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evalencia de vida (con y sin prescripción médica) según sexo y 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68"/>
          <p:cNvSpPr/>
          <p:nvPr/>
        </p:nvSpPr>
        <p:spPr>
          <a:xfrm>
            <a:off x="1748880" y="49946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se: Total de la muestr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3141720"/>
          <a:ext cx="6769080" cy="1652400"/>
        </p:xfrm>
        <a:graphic>
          <a:graphicData uri="http://schemas.openxmlformats.org/drawingml/2006/table">
            <a:tbl>
              <a:tblPr/>
              <a:tblGrid>
                <a:gridCol w="1727280"/>
                <a:gridCol w="1441440"/>
                <a:gridCol w="1150920"/>
                <a:gridCol w="1449360"/>
                <a:gridCol w="10000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j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≤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&gt;3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ipnót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ntidepres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imul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3:39:31Z</dcterms:created>
  <dc:creator>jessi ramirez</dc:creator>
  <dc:description/>
  <dc:language>en-US</dc:language>
  <cp:lastModifiedBy>Amira</cp:lastModifiedBy>
  <dcterms:modified xsi:type="dcterms:W3CDTF">2014-01-11T13:10:00Z</dcterms:modified>
  <cp:revision>66</cp:revision>
  <dc:subject/>
  <dc:title>V Encuesta Nacional de Consumo  de Drogas en  Hogares    2011</dc:title>
</cp:coreProperties>
</file>